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8453-3624-4E66-9FFD-81281F0D4A3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316-3D3B-4A41-952F-2A8E8868222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7400-C9E8-48A2-999C-F6FAAFAA9FC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BB8-3279-4A87-AC0A-F32DFD85B47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0C6-A10D-4A9A-B798-99A0CD6701D1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573-AE2C-46C9-9374-0663130C0AE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EEFE-AB68-46B6-99E5-FACD2D3F4927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C65-1067-48BC-9991-ABF028244221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F19-DAA9-45C4-98A8-6A9BC6050705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8B74-3B4C-4CF0-8BD7-D870C3F1330B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1903-23CA-48B4-A0A2-10C2DFA8C2E5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3EA3-AF03-4DD8-AE1E-AD98F730D31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888A-48A9-4A4C-A6BE-BA4D7F654A55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F42-1C41-4EC8-B7B1-645D802DE56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F79-6306-40BF-BB8A-E2ADA31761FF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062-87B7-456B-8539-269A7D552CF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71E-C7D9-4015-AEAC-6A8ADACF501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586-4A3E-46AA-82C9-B97D90C99CD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9667-2401-49E8-9158-86113CAD356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721-9C22-42D7-909A-3B52BDFA650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A57-9437-49D5-899E-0DEF315D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735-E371-4E41-AE18-3060A7D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0DD-410D-439B-B320-B07F8D69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BC1-BBE6-42CC-851E-7C1877BD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BF7-EE1B-446F-9C30-758BA67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5A8-2AED-480B-B8D2-995B4289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43B-37B1-47A9-8722-25E40C0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279-62E0-4D74-92C3-BDC6433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551-7934-44E2-B443-A5683FD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09F-CDDD-4A76-8E90-03A3BD8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1CA-2363-41E7-896A-815D564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4D5-201E-4A03-B0BE-16EB50C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4C3C-7297-493D-BE89-00CDFB1DDC17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μυελό των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θυστέρηση ωρίμανσης πυρ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γάλοι ερυθροβλάστες με ανώμαλους πυρήνε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δυκτιοερυθρ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Στην κοκκιώδη σειρά: Γιγάντια μεταμυελ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υρήματα ήπιας ενδαγγειακής αιμόλυ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όγω μη αποδοτικής ερυθροποίη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Μειωμένα επίπεδα κοβαλαμίνης (Β</a:t>
            </a:r>
            <a:r>
              <a:rPr b="1" lang="el-GR" sz="2600" spc="-1" strike="noStrike" u="sng" baseline="-25000">
                <a:solidFill>
                  <a:srgbClr val="1f497d"/>
                </a:solidFill>
                <a:uFillTx/>
                <a:latin typeface="Calibri"/>
              </a:rPr>
              <a:t>12</a:t>
            </a: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) πλάσ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ε ανεπάρκεια φυλλικού οξέ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επίπεδα φυλλικού οξέος στον ορό και στα ερυθρ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ΘΕΡΑΠΕ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Υποστηρικτική θεραπε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: Χορήγηση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φυλλικού: Χορήγηση φυλλικού οξέ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ΑΚΟΗΘΗΣ ΑΝΑΙΜ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λαττωμένη έκκριση ενδογενούς παράγοντα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υ είναι απαραίτητος για την απορρόφηση τ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ωση απορρόφησ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γαλοβλαστική και μακροκυτταρι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η παραγωγή χολερυθρίνης λόγω αιμόλυσης των ανώμαλων ερυθρών (ίκτερ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οι αναιμίες που οφείλονται σε αιμόλυση, δηλαδή σε αύξηση του ρυθμού καταστροφής των ερυθρών αιμοσφαιρίω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ην αιμόλυση ο χρόνος ζωής των ερυθρών μειώνεται από 120 ημέρες σε λιγότερο από 100 ημέρε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ΤΑΞΙΝΟΜΗΣΕΙΣ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341360"/>
          <a:ext cx="8280360" cy="50738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ΡΙΤΗΡΙΟ ΤΑΞΙΝΟΜΗ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ΜΟΡΦΕΣ ΑΙΜΟΛΥΤΙΚΗΣ ΑΝΑΙΜΙ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 Τόπος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. Διάρκεια καταστροφ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Οξε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Χρόν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 Κληρονομικότη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γγεν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κτη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. Αίτιο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 Συμμετοχή ανοσοποιητ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η 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ΠΑΘΟΦΥΣΙΟΛΟΓΙΚΗ ΤΑΞΙΟΝΟΜΗΣΗ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. ΣΥΓΓΕΝ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μεμβρά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Έλλειψη ενζύμων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α ερυθρά (π.χ. έλλειψη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6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αιμοσφαιρίνη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μεσογεια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δρεπανοκυτταρ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άλλες αιμοσφαιρινοπάθει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Ι. ΕΠΙΚΤΗΤ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Ανοσολογικής αρχή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Αυτ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Αλλ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αρμακογενή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2.   Σύνδρομα κατακερματισμού ερυθρώ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Μικροαγγειοπαθητική αιμόλυση από ποικίλες αιτ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Προσθετικές βαλβίδ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Γιγαντιαίο αιμαγγείω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Εγκαύματ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3.   Χημικοί και Φυσικοί παράγ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Δηλητήρ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άρμακ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Βιομηχανικές ουσ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4.   Λοιμώξε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5.   Άλλα αίτ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ΚΔΗΛΩΣΕΙΣ ΑΙΜΟΛΥΤΙΚΗΣ ΑΝΑΙΜΙΑ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ρχικά χωρίς συμπτώματα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λόγω αντιστάθμι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τη συνέχεια, εκδηλώσεις αναιμίας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φάνιση Χολολιθία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α επίπεδα σιδήρου -κίνδυνος εναπόθεσης σε καρδιά και ήπαρ (διόγκωση ήπατ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Όταν η κατάσταση δεν μπορεί να αντιρροπισθεί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τότε η αιμόλυση οδηγεί σε πτώση του αιματοκρίτ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ΕΡΓΑΣΤΗΡΙΑΚΑ ΕΥΡΗΜΑΤΑ ΣΤΙΣ ΑΙΜΟΛΥΤΙΚΕΣ 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Τα ευρήματα εξαρτώνται από την αιτία της αιμόλυσ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1f497d"/>
                </a:solidFill>
                <a:uFillTx/>
                <a:latin typeface="Calibri"/>
              </a:rPr>
              <a:t>Γενικ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Πτώση αριθμού ερυθρών 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DH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(λόγω αιμόλυση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σιδήρο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α υπόλοιπα εξαρτώνται από την αιτία της αιμόλυ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φείλεται σε ανεπάρκεια της βιταμίνης Β12 ή/και του φυλλικού οξέο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Χαρακτηρίζεται από ύπαρξη μεγάλων ερυθροβλαστών στο μυελό των οστών, λόγω διαταραχής στη σύνθεση του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560"/>
            <a:ext cx="777240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ιωμένα επίπεδα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και φυλλικού οξέος επηρεάζουν τη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διαίρεση και ωρίμανσ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των κυττάρ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άγονται μεγάλα ανώμαλα ερυθρά, τα μακροκύτταρα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ακροκυτταρ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Στο μυελό υπάρχουν πρόδρομες μορφές ερυθρών, οι μακροβλάστες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εγαλοβλαστ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Για την απορρόφηση τ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απαιτείται η ύπαρξη του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ενδογενούς παράγοντ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που εκκρίνεται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και το σύμπλεγμα απορροφάται από τον ειλε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Β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αποθηκεύεται στο ήπαρ για 1-2 χρόν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ΙΤΙΑ ΑΝΕΠΑΡΚΕΙΑΣ 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ζωικών τροφίμων και λαχανικώ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απορρόφηση - Δυσαπορρόφηση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Ατροφική γαστρίτιδ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Κακοήθης αναιμία (απουσία ενδογενούς παράγοντ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Γαστρεκτομή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Παγκρεατική ανεπάρκε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Νόσος </a:t>
            </a: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Croh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Ανταγωνισμός για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στο έντερο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(υπερανάπτυξη μικρο-βιακής χλωρίδας, παρασίτωση, σύνδρομο τυφλής έλικα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ταβολικά νοσήμα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ΤΙΑ ΑΝΕΠΑΡΚΕΙΑΣ ΦΥΛΛΙΚΟΥ ΟΞΕΟ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Δυσαπορρόφηση φυλλικού οξέο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Φάρμακα / αλκοό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ροπική κοιλιοκάκ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υξημένες ανάγκε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Κύησ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λυτική αναιμ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κάθαρ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ναστολή διυδροφιλικής αναγωγά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ΛΙΝΙ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Γενικά ευρήματα αναιμία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ιδικά ευρήματα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λόγω ιστικών συνεπειώ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Γλωσσίτιδα – στοματίτιδα – χειλίτιδ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γαστρεντερ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αναπνευστ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οστεοβλαστικής δραστηριότητα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ιμορραγική διάθε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ίκτερος (λόγω αιμόλυσης) – «Λεμονοειδής ωχρότητα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Νευροπάθεια (κυρίως αισθητική, λιγότερο κινητική, αργότερα κεντρική με οπτική νευρίτιδα και νευροψυχιατρικές εκδηλώσει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η Γενική αί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ατοκρίτ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οσφαι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ος όγκος ερυθρών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V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υξημέν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συγκέντρωση αιμοσφαιρίνης (Μ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αυξημέ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πυκνότητα αιμοσφαιρίνης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HC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φυσιολογικ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ευκοπενία – θρομβοπεν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επίχρισμα αίματ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ακρ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ισ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ΜΟΡΦΟΛΟΓΙΚΕΣ ΔΙΑΤΑΡΑΧΕΣ ΕΡΥΘΡ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νισοκυττάρωση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διακυμάνσεις στο μέγεθος των ερυθρών αιμοσφαιρί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ικιλ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διακυμάνσεις στο σχήμα των ερυθρών αιμοσφαιρίω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ι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μείω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α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αύξη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οχρωμία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μείωση συγκέντρωσης αιμοσφαιρίνης ανά ερυθρ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εγαλοβλάστες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πρόδρομες μορφές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4-05-21T08:40:39Z</dcterms:modified>
  <cp:revision>38</cp:revision>
  <dc:subject/>
  <dc:title>Παρουσίαση του PowerPoint</dc:title>
</cp:coreProperties>
</file>